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0B1-0DD3-4337-90C9-A0918158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018-A566-4629-BB5C-CADCDEC4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B07-8B8B-4D6B-835B-417787E7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CD9-1992-428E-88D3-5D7FA9A2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81A2-FBF5-45A1-ACD0-2D72DA1E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0612-0E0B-49EE-8BF8-22D6DDDF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3106-CE45-4795-A152-D095E934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7365-83F5-4303-847E-D9D709FF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453B-4584-4F5B-98A4-40B3DE1E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28BA-A609-49FE-8379-E56700F3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DBFB-FA56-48A6-ABD6-875729D0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EC6-DB98-4AD0-AD11-C60D28A1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D676-4C21-4417-B868-55B0A550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1034-F79D-4EE1-BFC5-9F967408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7CF7-1574-4D98-95B2-9E4A844B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8E61-E801-4F24-BCEF-4EFAB3E2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2CFA-80E6-4627-8479-549F24FD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778-333F-4045-B6F1-90604953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BAE-BFFD-4A95-BF01-6770CA12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37A-31EE-489E-ADF2-96969C6D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132-553C-40D3-9E7C-9993F01B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7F9-AC38-4DEC-92CE-DDB0CB47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B92-5EE6-44BA-AB53-D764A61D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99B-AFD8-431B-B6C6-9CCE34D7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6FE7-C702-4D90-81FF-3EA52741B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A046-B1D3-4B8C-B18D-A7C68D157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eachers.tv/videos" TargetMode="External"/><Relationship Id="rId3" Type="http://schemas.openxmlformats.org/officeDocument/2006/relationships/hyperlink" Target="http://www.teachers.tv/videos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watch?v=ljbI-363A2Q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Personalising learning</a:t>
            </a:r>
            <a:br>
              <a:rPr sz="4400"/>
            </a:b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….what’s it all about?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096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OM Norther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/2/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d by Deb Vie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ading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groups to number off from 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e home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ome groups share your insights from your reading. 5 mins max per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ading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chool groups add to your concept map in a second col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ere these ideas are represented in your school’s vision and learning and teaching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spects are st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spects are omit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y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9 Gatewa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in the UK the Specialist schools and academy trust, in partnership with Prof David Hargreaves, undertook a journey with English schools to explore what was meant by personalising learning and what it looked like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9 Gatewa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ive look at personalisation from the different, but complementary, perspectives afforded by a series of gate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Why these 9?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s applicable to every school and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s already a part of current professiona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quires strong leadership if progress is to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s potentially a way of enhancing student motivation and commitment to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to personalised learning can be made through any gate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from one gateway soon leads to one or more of th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to recognise the interconnectedness of the gateway as there is a danger of generating separate silos of inno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chool reflec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your concept map and add in a third colour if appropr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s your thinking developed since this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what you are already doing in the different gate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reaming- visioning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like your school to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Focusing the vis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ne or two areas you think you might like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MI of what you think is currently happening at you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Aim of toda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oaden and clarify our understandings of personalis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ore articles and research nationally and inter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se the ‘9 gateways’ as a framework to explore ways of personalis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ore and begin to frame up an area of personalising learning you wish to develop at y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Focusing the vis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ed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cted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d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need to find out/collect evidenc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last 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The next step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session task- to collect evidence about what is actually happ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refine your ideas about a focus- start small then divide by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 vi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What do we know about personalising learning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current ‘buzz’ term- bi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got something to do with meeting the needs of each individu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efinition from an expert source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sed Learning is the tailoring of pedagogy, curriculum and learning support to meet the needs and aspirations of individual lear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hild at a time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79ab6"/>
                </a:solidFill>
                <a:uFillTx/>
                <a:latin typeface="Arial"/>
                <a:hlinkClick r:id="rId2"/>
              </a:rPr>
              <a:t>http://www.teachers.</a:t>
            </a:r>
            <a:r>
              <a:rPr b="0" lang="en-US" sz="3200" spc="-1" strike="noStrike" u="sng">
                <a:solidFill>
                  <a:srgbClr val="779ab6"/>
                </a:solidFill>
                <a:uFillTx/>
                <a:latin typeface="Arial"/>
                <a:hlinkClick r:id="rId3"/>
              </a:rPr>
              <a:t>tv/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not specify- and should not seek - a formal definition of devising, organising and implementing ways of personalisation before we embark on the journeys of these innovation networks (the 9 gateways). We shall discover what personalisation is during the journey itself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gr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o let the journey begi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personalising learning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describ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schol groups create a concept map to show your ideas. (One colo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What are the forces driving this initiative?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2971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Happens  </a:t>
            </a:r>
            <a:r>
              <a:rPr b="0" lang="en-US" sz="3200" spc="-1" strike="noStrike" u="sng">
                <a:solidFill>
                  <a:srgbClr val="779ab6"/>
                </a:solidFill>
                <a:uFillTx/>
                <a:latin typeface="Arial"/>
                <a:hlinkClick r:id="rId2"/>
              </a:rPr>
              <a:t>http://www.youtube.com/watch?v=ljbI-363A2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ading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reading and move to an expert group. Each expert group should have 5-7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discuss your arti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the questions as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key points your group raise (all members must recor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4:06:30Z</dcterms:created>
  <dc:creator>Deborah Vietri</dc:creator>
  <dc:description/>
  <dc:language>en-US</dc:language>
  <cp:lastModifiedBy>Deborah Vietri</cp:lastModifiedBy>
  <dcterms:modified xsi:type="dcterms:W3CDTF">2010-02-18T07:33:07Z</dcterms:modified>
  <cp:revision>5</cp:revision>
  <dc:subject/>
  <dc:title>Personalising learning ….what’s it all about?</dc:title>
</cp:coreProperties>
</file>